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705-BBE3-4063-87AB-DDC78612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D7C-E7B5-42EF-BCEE-F6578FD5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E2A-86BA-4B90-A67E-5F95B1BE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98E-0A8E-4DE0-9DCE-7F4E1B91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50D-8EE2-4BC7-98D1-237CF562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11C-E36F-417F-BA56-F51F9E8C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5DE-E277-4659-8E3F-747A6AB9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2E7-38CF-40CC-A172-2B4BCDD6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E81-38C8-418E-A09B-62D70A75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6DE-E7E6-4551-9F11-891C22F3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9CB-83B6-4975-8393-712E249A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D38-48DC-4AD7-B2CC-B8819A8C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3D77-E402-42C6-8023-FD688ABFA0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360" y="2958480"/>
            <a:ext cx="4896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4:51Z</dcterms:modified>
  <cp:revision>698</cp:revision>
  <dc:subject/>
  <dc:title>Diapositiva 1</dc:title>
</cp:coreProperties>
</file>